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D55-778C-44CD-A843-8217DF40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E61-6D80-452D-92FE-58AD101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736-57FA-4236-B12B-F4F81F4E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E21-2E96-4DCF-AA0B-8F1B9762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CE2-CBCD-4BA3-9AE9-BCEAAE99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016-E8E4-450F-95B1-8AD870C1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087-90AB-42FD-ACF3-06C0B337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DEE-1384-4DF4-97E9-B299EE7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39-EEDA-4825-839F-C7381813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7B0-5692-4432-86AD-0013B6B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FD1-E88F-4106-8C0C-9CD1EA1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C8C-0FEB-48F2-989B-B1434D8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F3A-1299-4729-ABD3-BA970C08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ava 2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Overlo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Java class can define several methods with the same name, so long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rameters are different, the return type i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int doSomething(String s, String s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int doSomething(String 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int doSomething(int x, in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 determines the correct method to call by checking th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ful to provide variants of a method that work on different types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ically one method does all the work, and the others c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with constructors, this collects common code into a singl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Overr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-class can define a method with the same na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meters as as bas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s 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when some aspect of the base class behaviour must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letely change the implementation, just define a new version (in the chi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artially change the implementation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 to refer to the parents origin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we call a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VM tries to find the implementation of that method and then execute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searching with the objects class, then works upward to its parent…its parent’s parent…et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 for methods works from the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of how constructors are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xplains how a sub-class can substitute its own behaviour for a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VM finds tha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an E-Commerce system we might have a class responsible for calculating prices e.g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Pr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 float calculatePrice(Product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implementation details irrelevant for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Product parameter lets the Pricer calculate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ume we want to extend this functionality so that the calculation also includes tax (i.e. adding on VA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 purchases don't include tax, but UK ones do, so we can't just rewrite the original meth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tead we create a subclass, called UKPricer that does the extra work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UKPricer extends Pr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 float calculatePrice(Product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this implementation will also add on VAT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eally we want to reuse the code in the base class, as all we need to do is add on the extra 17.5% to the final pric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e can do better than copy-and-paste using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pe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class UKPricer extends Pr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 float calculatePrice(Product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call the superclass method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withoutTax = super.calculatePrice(p);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loat tax = withoutTax * 17.5 / 100;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return withoutTax + t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ing Inheritance – Restri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can be restricted using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es to both methods an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inal clas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inal meth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overr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final class My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final int aMethod() {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ing Inheritance – 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can be forced by using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ain applies to both methods an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bstract clas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extended, cannot be used to cre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bstract meth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overrided by a sub-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lass with at least one abstract method must be declared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abstract class Some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int aMethod() {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abstract void otherMetho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ncaps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overriding and over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ck Rec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defines parent-child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 (or super) class, and derived (or sub-)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 inherits all functionality of its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ically add new methods and member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of the basic features of all OO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ready encountered it in Rob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your robots extend a provided Robot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robocode events extend an Event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can extend almost any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a couple of extensions as we’ll 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word in the class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MyRobot extends Robo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class can only extend one bas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like C++ Java doesn’t allow multiple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Java classes extend a common base class (java.lang.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ically assumed by the compiler, unless you say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vides some basic functionality, e.g. toString() and equal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Calculator extends Obje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heritance and Encaps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-classes inherit all their superclass memb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may not be able to access them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visibility modifiers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ly public and protected are 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vate member variables of a base class cannot be altered by a sub-class (except via a 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ip: Try to avoid breaking encapsulation by making variables private, unless you’re expecting the class to “have childre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clas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vate String _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vate String _e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/can be access by sub-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otected int _sala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ring getName() 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ublic String setName() 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 Revis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ors can call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s initialisation code to be kept in one place (not duplicated between constru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eyword to call another constructor in the sam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first line in the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ookmar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kmark(String ur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is( new URL(url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Bookmark(URL ur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//other initialis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 and 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class must ensure that its parent is properly initialised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ts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f a constructor isn’t explicitly called a call to the default constructor is added by 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constructor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 happens from the top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, parent, chil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class Parent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ivate String 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Parent() {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Parent(String messag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sg = messag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class Child extends Parent { 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Child()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  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uper("Parent message");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ublic class OtherChild extends Par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04:31Z</dcterms:created>
  <dc:creator>Leigh Dodds</dc:creator>
  <dc:description/>
  <dc:language>en-US</dc:language>
  <cp:lastModifiedBy>Leigh Dodds</cp:lastModifiedBy>
  <dcterms:modified xsi:type="dcterms:W3CDTF">2003-03-06T17:41:48Z</dcterms:modified>
  <cp:revision>257</cp:revision>
  <dc:subject/>
  <dc:title>Introduction to Java 2 Programming</dc:title>
</cp:coreProperties>
</file>